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D1ACB-32AD-4F82-94B4-04544712361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D47A2-9BBA-4047-8E90-0FA51AFFDFE0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CA845-1345-4574-BEBA-5E1844E3E379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8741C-41D2-489E-AD31-956F835A7219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4871F-EC06-4D48-90A7-6D11689EA631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67235-4D35-4E5F-898F-53EF03270623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D1C4A-0A8D-4DB1-A489-956AF744BB66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0D60F-6B89-48A1-A2F2-9913D4D47158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A6FCE-B4D8-4B80-92C8-31194BA98E1D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B3E7-B769-40E5-AE27-3469AB477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7BED-5858-4C23-8D60-E5ABFA7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BFC2-8BE4-4379-A0F6-1CD3949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7CC4-1DA1-49CB-AB76-143707D7D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4C9DB-39C4-43A7-BCD7-04E1669CE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B0A84-D938-409F-A0A0-0EEE5529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22F9-0FFF-4F3A-8361-ED7D880D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3D7A9-A95A-4655-A181-D2C7F631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15D1-F09E-40D8-95BF-61B8D8C5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7AE2C-EFF1-41BB-A45F-C198C98A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AD97A-12A6-4768-B6CC-60F3BDA7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7AE5-FF9C-46C9-94DE-4B519D9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DF2D0-457C-4C7F-A062-CDF7D8E6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5484B-CFA8-4C3C-8F4A-1D3E1013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7A88-1542-45A9-9703-8C425EC5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B00B-596B-4547-B794-3A2A91C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924F3-D6F6-4300-AB74-FA04AB414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1CB-E5AF-4D11-A8E5-90CFB1296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6D3E-C2FF-4BB2-BA46-7AD8D94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D57-AE80-4A0B-8070-16FC184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CAAE-7643-4C80-BDAD-D7A55AC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06F-E35E-4727-A65F-057D799E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FD9E-C1FC-432C-9FC6-53F52F2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4C0-7861-413E-9E4E-0C282E08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6051-FA96-4CBD-935F-AF7540A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FE8-8798-43BF-8041-6DD98A20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7639-8CA5-4EA1-AD2F-CA8DBCF3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416-0F92-42D5-B94C-C6FAF2E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0BA0-DF8E-4277-80FC-8B2DE8D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1BDE-05EA-4E56-ACCA-6DE49CA65E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387DF-BD6E-4EAF-B1BF-7A8CE8EA8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E9404-4FB7-4B84-9108-B77387D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E3716-9268-495E-BDBB-08DB6A6F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167B-C879-43D0-BFF4-B40A2DB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F6DA2-F118-49F5-AA36-73BC8F2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B9F3A-C086-48C3-BBFD-4D77DF4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E573A-149B-44B0-8F0F-631083F8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3E7F8-2FE1-4BAC-BF36-6CAE081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2B829-3459-4893-A908-CD3F51E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5F608-44EE-41B8-9760-AEEA8FD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BD3EA-7C3A-4E3A-9D64-85A850B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C9DFE-5263-44F6-8A4A-1A2A913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E18C2-20A4-495C-9BDD-FB80A733E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390C8-04FD-4EB6-9F95-710320DEC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4082-2953-4F08-BC66-94A97AC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E580E-995F-434D-87E3-7AE1E75F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71755-255F-4855-9FE9-16AE621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E3379-53C1-4ADA-8D4D-F4B052A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0ED0A-77E9-4CCC-A412-AA931E87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7000D-C7DA-4AC6-A37F-CD77DB32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56BC6-6F57-4C1A-851A-F773DFCD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9E0F9-2884-47E3-8CBE-BF6F408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CCF02-A5AC-4AF5-9FA8-F510BDE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93DDF-112A-4788-ABBC-B900AE9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5C957-6930-49CD-942A-ED7B3BB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00C6-B57B-4F8B-A64E-AF24A474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3A4C1-B196-450C-99C5-47B0FB7F4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BA21-E623-4EBE-A138-27032C305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BEC68-FECE-4FBD-8726-5F44C528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F765-F58C-4815-A407-BB5CF992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53A7-DE34-4374-A22E-0E1137D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68F3-B6A1-4773-93B4-C8BB69A9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041C-EA82-48A1-AA3A-8C50276E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535E-5DC2-430A-94FE-5A8124A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0FDF-BF96-404F-BEAD-E977CD37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6A3A-09E1-4ABF-B4C1-55E1398F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5854-5EBE-4561-9BF3-EC4FF2F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DCDD-955E-420D-AAD9-8801159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CF2C-1D33-4E58-9071-4B8C889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829D-6763-4C19-ADE4-D9C794B04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A8704-FF68-469F-8D45-D599EA0AF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2C3F1-E671-498C-A797-C001FF7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40189-8535-45F0-919D-29A4A1F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8D070-254F-4636-8831-DDD3EFBD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DA7FA-456E-4C23-A7E7-C3508118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ED7DA-950F-48DE-845C-15634F4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89151-2E99-4E80-9F45-3D6929D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6E29-909A-4968-B43D-54C74072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0F1BB-1339-4B92-8C02-B36AAE4A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21CD2-6547-4EAE-9205-9DF003B7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A8848-7455-46F4-9A3C-B1BA4EB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FB04A-B229-474B-9975-FBE1EA0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47021-1733-43DD-9326-195FF1313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0539-4910-4A33-B96C-4E928A5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572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50CAB-39DE-485A-A5A1-7B25BAFFBC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572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D9AEE-B856-43EB-A54C-99CA80D22E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E4312-ADBE-4572-8BD1-6C68C695F0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CB543-A4D0-4525-9A7C-A17F5F78B1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5ED86-F525-47CA-8F8F-796CD70182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A231C-4C83-4E5B-93A6-3AF9682051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2EDCD-FE58-446B-9621-100B04AA9E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hinkexist.com/quotation/consult_not_your_fears_but_your_hopes_and_your/8220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-687240"/>
            <a:ext cx="77724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senting…</a:t>
            </a:r>
            <a:br>
              <a:rPr sz="3900"/>
            </a:br>
            <a:br>
              <a:rPr sz="3900"/>
            </a:br>
            <a:r>
              <a:rPr b="1" lang="en-US" sz="6000" spc="-1" strike="noStrike">
                <a:solidFill>
                  <a:srgbClr val="572314"/>
                </a:solidFill>
                <a:latin typeface="Harlow Solid Italic"/>
              </a:rPr>
              <a:t>“A fun learning experience in Algebra”</a:t>
            </a:r>
            <a:br>
              <a:rPr sz="3900"/>
            </a:br>
            <a:br>
              <a:rPr sz="3900"/>
            </a:b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4267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Hobo Std"/>
              </a:rPr>
              <a:t>Second Year High School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Hobo Std"/>
              </a:rPr>
              <a:t>June 2016 – June 2017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4b3e21"/>
                </a:solidFill>
                <a:latin typeface="Gill Sans MT"/>
              </a:rPr>
              <a:t>Ms. Virna Fe R. Gu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appreciate the role of mathematics in our daily liv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acquire and develop logical and critical think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openly accept challenges in lif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43000" y="46368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irst Grading: Special Products, Factoring, and Quadratic Equatio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al Products and Facto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adratic Equ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290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066680" y="166680"/>
            <a:ext cx="82296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econd Grading: Rational Expressions and Equations and Rational Exponent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Expressions and Equ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Expon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390760" y="2819520"/>
            <a:ext cx="6753240" cy="3381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066680" y="3110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ird Grading: Radicals and Variation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dic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i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38862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143000" y="5396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ourth Grading: Patterns in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lgebra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ries and Seque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61000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heart warming though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ff0000"/>
                </a:solidFill>
                <a:latin typeface="Gill Sans MT"/>
              </a:rPr>
              <a:t>Lo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not being loved in retur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Hop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pai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1" lang="en-US" sz="2700" spc="-1" strike="noStrike">
                <a:solidFill>
                  <a:srgbClr val="7030a0"/>
                </a:solidFill>
                <a:latin typeface="Gill Sans MT"/>
              </a:rPr>
              <a:t>Try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s to risk failure, bu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700" spc="-1" strike="noStrike">
                <a:solidFill>
                  <a:srgbClr val="35436a"/>
                </a:solidFill>
                <a:latin typeface="Gill Sans MT"/>
              </a:rPr>
              <a:t>Risk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must be taken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caus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greatest hazard in life is to risk noth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~Pope John XXIII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erences: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ill Sans MT"/>
                <a:hlinkClick r:id="rId2"/>
              </a:rPr>
              <a:t>http://thinkexist.com/quotation/consult_not_your_fears_but_your_hopes_and_your/8220.htm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mediate Algebra Textbook, Gladys C. Nivera, Ph.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1:13:08Z</dcterms:created>
  <dc:creator>Juan1.doc</dc:creator>
  <dc:description/>
  <dc:language>en-US</dc:language>
  <cp:lastModifiedBy>virna</cp:lastModifiedBy>
  <dcterms:modified xsi:type="dcterms:W3CDTF">2012-10-01T00:05:07Z</dcterms:modified>
  <cp:revision>17</cp:revision>
  <dc:subject/>
  <dc:title>PowerPoint Presentation</dc:title>
</cp:coreProperties>
</file>